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4CB0-18B3-4DD2-B27B-3E6B3D409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F43D-4F14-41E7-A9B0-2E1A2DCD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9382-0DA2-4BBF-8294-3BC8AAC66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38B5-F55E-4012-9EBA-1F6588650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F590-0A77-4D99-B60B-8C7F4A5A9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E443-BE12-4B45-A739-F5663A43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35F3-2863-444F-8476-59CF384D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9AE9-BCC0-4A58-8A34-AC3A9634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9B40-D021-4A77-AACB-4F439207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205D-67FE-47E6-A5CC-47119C6F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FB79-61AF-4298-A4BF-00BA4C2F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897E-2BD6-4017-866E-AFE9A90D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D5E21-FBD5-4F38-A19D-3A0A02F3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A9DA-AA6F-4282-A560-5BB83904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CDC1-D496-4240-9C90-0A7B50D4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C3616-F6EA-4F09-B4C7-58FDB9A1F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9C3FD-8629-4BD5-9004-366082F56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8A2B-44C8-4977-8F56-1F01F183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9C86-5BF9-4F7E-A097-3C05DEC6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2985-4282-498C-9A5E-38CAB5F2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1AA2-CE3A-4926-ADEF-7BDF5A98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7FE7-E8C9-4968-82E8-566D4DC2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DAA8-C600-4C1F-AFE9-8A2ED0D7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C987-EEE1-4506-B53E-37414A19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5426-CEA2-4D21-A05A-DDD7B1FF9254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FCEC-8174-442B-ADE1-47C79DD73A39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143000" y="2362320"/>
            <a:ext cx="7467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141300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d3333"/>
                </a:solidFill>
                <a:latin typeface="Times New Roman"/>
              </a:rPr>
              <a:t>Особенености работы сельского учителя в малокомплектной, в малочисленной  школе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16000" y="4005360"/>
            <a:ext cx="76327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йбородов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юдмила Васильевна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.кафедрой педагогических технологий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ославского государственного педагогического университета им.К.Д.Ушинского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педагогических наук, профессор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научного центра РАО при ЯГПУ,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межрегиональной  научной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дагогика сельской школы»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a2d2d"/>
                </a:solidFill>
                <a:latin typeface="Times New Roman"/>
              </a:rPr>
              <a:t>Проблемы в организации  работы </a:t>
            </a:r>
            <a:br>
              <a:rPr sz="3200"/>
            </a:br>
            <a:r>
              <a:rPr b="0" lang="ru-RU" sz="3200" spc="-1" strike="noStrike">
                <a:solidFill>
                  <a:srgbClr val="ba2d2d"/>
                </a:solidFill>
                <a:latin typeface="Times New Roman"/>
              </a:rPr>
              <a:t>в малочисленной школе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и в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ганизации психолого-педагогической и социальной поддержки разных категорий дете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отсутствия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онных учреждений на селе, психологов, социальных педагогов и других специалистов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ность, обедненность социальных контактов школьников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 уровень соревновательности, ограниченность внешних стимулов для развити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и в выборе педагогических средств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ный доступ учащихся и педагогов к некоторым информационным источникам, сложность посещения культурных и образовательных центров региона и др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Что учесть учителю малочисленной 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школы  в работе как положительный ресурс</a:t>
            </a:r>
            <a:br>
              <a:rPr sz="2800"/>
            </a:b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90360" y="1828800"/>
            <a:ext cx="761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ные связи школы и социума, педагогов и семьи, всех участников образовательного процесс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ческое освоение обучающимися опыта практического сельскохозяйственного труд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ая близость детей к живой природе, тесное взаимодействие с окружающим миром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развития интеграционных процессов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 учебной и внеучебной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ополнительного образования дете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на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спитан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тей общественного мнения селян,  местных традиц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оложительные стороны малочисленности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дивидуализации образовательного процесса,  проектирования индивидуального образовательного маршрута, программы, плана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нсивность межличностных и деловых контактов между педагогами и учащими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взаимопознания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каждому  ребенку проявить себя в общем деле, объединиться, договориться о единстве действий;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приятные условия для сотрудничества, организации совместной деятельности и общения, творчества педагогов и детей, старших и младших;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оложительные стороны малочисленности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личностных особенностей, бытовых условий жизни друг друга, отношений в семьях способствует установлению доброжелательных и доверительных отношений между взрослыми и детьми, формируется атмосфера многодетной семьи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ьность развития школьного и детского самоуправления;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коллективной выработки решений, доступность каждому ребенку и родителю  принять участие в обсуждении школьных пробле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d3333"/>
                </a:solidFill>
                <a:latin typeface="Times New Roman"/>
              </a:rPr>
              <a:t>Задачи образовательной деятельности  сельских  педагогов  определяются с учетом особенностей детей  (сильных сторон, проблем воспитания  и дефицитов в социализированности школьников).</a:t>
            </a:r>
            <a:endParaRPr b="0" lang="en-US" sz="1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ы и трудности сельских детей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организаторских и коммуникативных умений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веренность в своих силах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ная тревожность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адекватная самооценка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ормизм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мотивации учения, самостоятельности в принятии решени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сти в общении с новыми людьми и затруднения при адаптации в новых условиях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профессионального самоопределения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падает» потребность в самовыражении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женные требования к своему развитию и образованию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Особенности организации образовательной деятельности  учителя 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00000" y="1557360"/>
            <a:ext cx="7920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разновозрастных групп для организации учебной и внеурочной деятельности детей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взаимодействия детей разного возраста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временное обучение детей по нескольким образовательным программам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мостоятельной деятельност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учающихся на занятиях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изация образовательного процесса, обеспечивающая субъектность детей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ммуникативных форм и технологий (групповой и парной работы)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льнос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инамика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высокий уровень импровизации при организации образовательного процесса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й уровень интеграции средств учебной и внеурочной деятельности детей 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го образования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для коллективного принятия решений, развития   школьного самоуправления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  и обогащение социальных контактов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ути и средства повышения эффективности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деятельности учителя сельск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71640" y="162864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Усиление социальной направленности деятельности детей в объединениях и коллективах (решение практических задач, связанных с жизнью села)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Разработка и реализация детьми и взрослыми социальных проектов, предусматривающих преобразование жизни на селе (очистка и восстановление водоемов,  поиск способов  повышения плодородия почв и т.п.)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Изучение и выявление ресурсов для развития дополнительного образования детей силами местного населения, специалистов местных хозяйств и производств, умельцев, жителей, носителей народных традиций, их привлечение к организации  постоянных и временных объединений, проведению праздников, созданию  творческих  коллективов детей, детей и взрослых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Развитие сотрудничества взрослых и детей при проведении праздников села, школы; создание совместных творческих, спортивных, художественных и других коллективов, объединяющих детей и родителей, жителей села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ути и средства повышения эффективности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деятельности учителя сельск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71640" y="184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Развитие сотрудничества взрослых и детей при проведении праздников села, школы; создание совместных творческих, спортивных, художественных и других коллективов, объединяющих детей и родителей, жителей села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птимальное использование  кадровых и материальных ресурсов села, всех его учреждений для организации ОП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Создание детско-взрослых сообществ для организации дополнительного образования и развития населения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Привлечение  кадровых и материальных ресурсов ближайших поселений, обмен  специалистами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Интернет-ресурсов для  организации совместного  и оперативного решения проблем, удовлетворения  образовательных потребностей  детей и родителей 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6000" y="23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Times New Roman"/>
              </a:rPr>
              <a:t>Спасибо за внимание !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64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Times New Roman"/>
              </a:rPr>
              <a:t>Сельский учитель – лидер  села, энтузиаст, патриот школы, села, предан своему делу, заботлив и трудолюбив, скромен и бескорыстен, воспринимает   учеников как своих собственных детей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61928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В селе ты не просто порядочный житель,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У всех на виду,  твоё имя – Учитель!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И спрос с тебя строгий, и честь высока,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И ноша твоя на миру нелегка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    </a:t>
            </a:r>
            <a:r>
              <a:rPr b="0" i="1" lang="ru-RU" sz="1600" spc="-1" strike="noStrike">
                <a:solidFill>
                  <a:srgbClr val="351a00"/>
                </a:solidFill>
                <a:latin typeface="Times New Roman"/>
              </a:rPr>
              <a:t>(Г.В.Попова, выпускница  сельской школы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влияющие на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71280" y="1628640"/>
            <a:ext cx="7412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Социально-экономические</a:t>
            </a: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удаленность школы от районных и культурных центров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автономность, замкнутость сельских поселени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связи школы и  сельского социум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-духовные и культурные традиции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экологическая  и природная сред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наличие организаций  дополнительного образования детей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 наличие специалистов (психологов, социальных педагогов и др.)  и педагогов ДОД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 материальная база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5564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Социально-психол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трудности социализации сельских дете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постоянный контроль за деятельностью и поведением учителя;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устойчивое, более интенсивное, чем в городе,  взаимодействие детского и взрослого поселени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психологическая атмосфера в школьном и педагогическом коллективах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Психолого-педаг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более тесные повседневные взаимосвязи учителя с  детьми, родителями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сесторонняя информированность о семьях и детя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лияние сложившихся стереотипов  на оценку поведения и достижений детей</a:t>
            </a: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5564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Организационно-педаг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ыполнение  дополнительных  функций, кроме  педагогических (участие в решении проблем села,  защита ребенка и семьи,  просветительская работа среди населения, организация  культурных мероприятий на селе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едение нескольких дисциплин,  реализация программ</a:t>
            </a: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дополнительного образования,  ответственность за  работу на нескольких направлениях воспитательной работы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стиль управления и отношения в педагогическом коллективе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ограниченность  профессионального общения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едагогические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организация образовательного процесса в малочисленных класса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бъединение  нескольких классов для проведения учебных заняти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рганизация  воспитательной работы, дополнительного образования в разновозрастных группа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необходимость интеграции средств учебной, внеучебной деятельности  и дополнительного образования дете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возможности  использования методов и форм образовательной  деятельности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подготовленность обучающихс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ресурсов социума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 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90360" y="1828800"/>
            <a:ext cx="761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1. Развитие экономики села: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воспитание труженика села через включение в различные объединения гражданского, экологического, краеведческого и  трудового направления;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ресурсов  образовательного процесса для подготовки к жизни на селе,  приобретения опыта ведения сельского хозяйства;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профориентационная работа, предпрофильная подготовка с привлечением авторитетных, состоявшихся, успешных жителей села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и содержания деятельности 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42560" y="1628640"/>
            <a:ext cx="7489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2. Развитие духовно-нравственной сферы села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сохранение, восстановление народных традиций через создание творческих и поисковых коллективов детей и взрослых, проведение праздников, использование местных обрядов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духовно-нравственное оздоровление жителей села, привлечение их к досуговой деятельности через включение в детские творческие коллективы. </a:t>
            </a: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3. Укрепление и восстановление здоровья сельского населения: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организация системы оздоровительной работы  на селе специалистами школы и УДО, охватывающей всех жителе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создание семейных спортивных объединений, кружков, секций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 и содержания деятельности 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90720" y="1828800"/>
            <a:ext cx="754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4. Развитие образованности населения 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через  взаимодействие со школьниками и приобщение  жителей к организации образовательной и воспитательной деятельности, дополнительного образования детей (ведение кружков, секций, подготовка и проведение отдельных занятий и мероприятий с детьми)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5. Сохранение экологии села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 через создания школьных лесничеств, экологических отрядов, отрядов юннатов, организацию природоохранной деятельности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08:44:37Z</dcterms:created>
  <dc:creator>Гречин</dc:creator>
  <dc:description/>
  <dc:language>en-US</dc:language>
  <cp:lastModifiedBy>Dell</cp:lastModifiedBy>
  <dcterms:modified xsi:type="dcterms:W3CDTF">2021-12-08T14:36:53Z</dcterms:modified>
  <cp:revision>47</cp:revision>
  <dc:subject/>
  <dc:title>Заголовок слайда отсутствует</dc:title>
</cp:coreProperties>
</file>